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E4C-534F-46ED-BD56-E6121CD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CD1-BED1-40FF-BF2B-C1920F3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1C0-5410-479E-B80D-BDF21139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F4E-CCCB-4A90-8E20-B86D9867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05A-D729-42E1-AD53-98CC5715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E8E-731D-44AE-A1FC-472848B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184-A516-4E6D-A049-7760B87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4F6-7193-4B6C-A20E-25353C6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6DB-0EF4-4D99-8D0F-B2925820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829-74A1-4C91-BB16-B8B4304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2EA-3588-4F46-B6F1-7C15189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360-B93F-4157-8CF1-6B45793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0E0-1D2D-44D7-AC21-9D0523C62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and Automation Tool for STT-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rag Nig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E-6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in Progress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8Kb memor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-power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s Brea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Cel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it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ense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iming block, Write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4x4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kill script to Generate the sch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complete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T-RAM bit cel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agnetic Tunnel Junction (M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ccess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2666880"/>
            <a:ext cx="4667400" cy="1391760"/>
            <a:chOff x="1143000" y="2666880"/>
            <a:chExt cx="4667400" cy="1391760"/>
          </a:xfrm>
        </p:grpSpPr>
        <p:grpSp>
          <p:nvGrpSpPr>
            <p:cNvPr id="48" name=""/>
            <p:cNvGrpSpPr/>
            <p:nvPr/>
          </p:nvGrpSpPr>
          <p:grpSpPr>
            <a:xfrm>
              <a:off x="1143000" y="2666880"/>
              <a:ext cx="2196720" cy="1391760"/>
              <a:chOff x="1143000" y="2666880"/>
              <a:chExt cx="2196720" cy="1391760"/>
            </a:xfrm>
          </p:grpSpPr>
          <p:sp>
            <p:nvSpPr>
              <p:cNvPr id="49" name=""/>
              <p:cNvSpPr/>
              <p:nvPr/>
            </p:nvSpPr>
            <p:spPr>
              <a:xfrm>
                <a:off x="1143000" y="266688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3000" y="320796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351720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598760" y="296064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98760" y="367488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98760" y="39384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4880" y="325440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28920" y="364464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93960" y="354780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371628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6840" y="28191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20880" y="4191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1: Structure of MT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04812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T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1828800"/>
            <a:ext cx="8316720" cy="4254480"/>
            <a:chOff x="76320" y="1828800"/>
            <a:chExt cx="8316720" cy="4254480"/>
          </a:xfrm>
        </p:grpSpPr>
        <p:graphicFrame>
          <p:nvGraphicFramePr>
            <p:cNvPr id="65" name=""/>
            <p:cNvGraphicFramePr/>
            <p:nvPr/>
          </p:nvGraphicFramePr>
          <p:xfrm>
            <a:off x="76320" y="198108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8108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152280" y="350532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5800" y="396252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791320" y="182880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182880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715000" y="35812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403812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57150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32004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6172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bit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9480" y="1447920"/>
          <a:ext cx="2540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540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4920" y="5791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33920" y="1523880"/>
            <a:ext cx="4647960" cy="4727160"/>
            <a:chOff x="3733920" y="1523880"/>
            <a:chExt cx="4647960" cy="4727160"/>
          </a:xfrm>
        </p:grpSpPr>
        <p:graphicFrame>
          <p:nvGraphicFramePr>
            <p:cNvPr id="81" name=""/>
            <p:cNvGraphicFramePr/>
            <p:nvPr/>
          </p:nvGraphicFramePr>
          <p:xfrm>
            <a:off x="3733920" y="1523880"/>
            <a:ext cx="3962160" cy="406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1523880"/>
                      <a:ext cx="396216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43434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2057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257800" y="18288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213372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1911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791320" y="342864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62120" y="241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e Amplifi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838080"/>
          <a:ext cx="8381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860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S. Natarajan et.al “ Searching for the Dream Embedded Memory”, ISSC Magazine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1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 =0 SL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0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=1 S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14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T-RAM array auto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0040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satya’s skill script to use leaf cells designed for STT-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cripts for array, write driver and sense-amp. gen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cript to generate the complete schem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x 8 Memory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1676520"/>
            <a:ext cx="6058080" cy="3390840"/>
            <a:chOff x="914400" y="1676520"/>
            <a:chExt cx="6058080" cy="3390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60580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847880" y="4006800"/>
              <a:ext cx="15555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iming B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8400" y="2017800"/>
              <a:ext cx="1323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x8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6000" y="3005280"/>
              <a:ext cx="1230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rite Dr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9920" y="4005360"/>
              <a:ext cx="17971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nse 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990720"/>
            <a:ext cx="6933960" cy="4724280"/>
            <a:chOff x="990720" y="990720"/>
            <a:chExt cx="6933960" cy="4724280"/>
          </a:xfrm>
        </p:grpSpPr>
        <p:graphicFrame>
          <p:nvGraphicFramePr>
            <p:cNvPr id="106" name=""/>
            <p:cNvGraphicFramePr/>
            <p:nvPr/>
          </p:nvGraphicFramePr>
          <p:xfrm>
            <a:off x="990720" y="990720"/>
            <a:ext cx="6858000" cy="47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990720"/>
                      <a:ext cx="6858000" cy="47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895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0280" y="2895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7432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040" y="320040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34320" y="32004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2240" y="1587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168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x8 Memory Array: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0:48:27Z</dcterms:created>
  <dc:creator>anuragn</dc:creator>
  <dc:description/>
  <dc:language>en-US</dc:language>
  <cp:lastModifiedBy>anurag</cp:lastModifiedBy>
  <dcterms:modified xsi:type="dcterms:W3CDTF">2010-04-23T18:10:18Z</dcterms:modified>
  <cp:revision>23</cp:revision>
  <dc:subject/>
  <dc:title>Design and Automation Tool for STT-RAM</dc:title>
</cp:coreProperties>
</file>